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gif" ContentType="image/gif"/>
  <Override PartName="/ppt/media/image7.gif" ContentType="image/gif"/>
  <Override PartName="/ppt/media/image11.gif" ContentType="image/gif"/>
  <Override PartName="/ppt/media/image9.wmf" ContentType="image/x-wmf"/>
  <Override PartName="/ppt/media/image14.png" ContentType="image/png"/>
  <Override PartName="/ppt/media/image6.gif" ContentType="image/gif"/>
  <Override PartName="/ppt/media/image17.wmf" ContentType="image/x-wmf"/>
  <Override PartName="/ppt/media/image10.gif" ContentType="image/gif"/>
  <Override PartName="/ppt/media/image8.wmf" ContentType="image/x-wmf"/>
  <Override PartName="/ppt/media/image13.png" ContentType="image/png"/>
  <Override PartName="/ppt/media/image5.gif" ContentType="image/gif"/>
  <Override PartName="/ppt/media/applause.wav" ContentType="audio/x-wav"/>
  <Override PartName="/ppt/media/image22.png" ContentType="image/png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5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chimes.wav" ContentType="audio/x-wav"/>
  <Override PartName="/ppt/media/image4.gif" ContentType="image/gi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A640-2D51-4B52-832E-EA739723D519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AD00-EF28-4B91-8DAC-82ED8EB26BFC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B20C-CFA8-41BB-84C1-1962F727B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F5BD-184D-4338-9DCB-7D73A52FD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D137-410B-4E5C-9D8A-DD44BDBA7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7DAA-90BA-4C05-AA6F-D5B8614250C4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B20B-8918-4883-B397-2F5752B2AA27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9C13-F4A0-47A3-89C7-0F24EE13EDBA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7FF0-8CBB-4A57-9DC0-00BEEC6EB1F1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EF1B-68F2-4850-8EAF-0EB1B6E98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7DC4-EF71-42F7-8997-D5FA73F1CF72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CBD7-7566-4D67-A495-3C01A73CDDD9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3D87-DAE8-445F-A8BB-34BBB0651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60B2-CD63-4B1F-A89F-B2D0769A6FD9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3E85-2C79-47E8-8F84-B945F82620A7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C6FA-9790-4266-A719-5B067BDA2DB0}" type="slidenum">
              <a:rPr b="0" lang="es-P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6E68-AFC7-4A15-89F0-6C22ECBC2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3397-3C8E-4634-B895-5205AB592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379-CDF7-4E11-B977-9528C5DC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184-F874-4694-80FF-CF5DC54F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8D7F8-7702-404F-910E-392E3BF2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CA34E-36F8-42DF-A762-D983C7DC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77FD5-4BF2-432E-AE24-6235CDE2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3BE00F-0DF0-4B10-A15F-AEBAA679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9D4B0-7D98-4873-A339-35551A0E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D0C6B-9067-47B9-957F-F4E9054A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D5924-7D95-483A-8498-B41C24B1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0CEC9B-FFD6-414D-9F56-811F6E3B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386F04-8CA2-4516-ADF4-0CB8633C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1C220-1580-4C48-9D21-8515ECF7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175E-F629-4AC1-8B54-D4DB4E7A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69FA7-7314-47D1-B4E5-5DF2A2D1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E4B03-10BB-4953-93A6-C1E7B6A3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52A85-B9AE-4372-B248-28A1E930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F4462-76CA-43E8-902B-BB52DEE5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04B73-CE26-47CD-80B9-7CC68DBA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C6BF90-F69C-4F2F-984F-580D8928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D1CCC-EE5A-44A6-B652-01258CC5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B46ABF-9656-4A16-83B4-CABA8E22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F4124-B669-44D3-87F6-238C80B5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7FED6-5FC2-470A-A743-C8EAD58A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C2E-E593-478C-AE48-0B18F93F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41DD4-349B-48FC-8B02-76F8018B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B7129-6B88-408C-B29A-24F9CE28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A6D51-FE68-4406-9F76-822DCD3B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3BAF6-8A12-4BC4-8064-FD040F45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2C6AA-5DE3-4C79-87FA-D96F6873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13E38-9B88-40C6-91EE-DDEA4DEE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C0AE9-8193-4F75-865C-71F31CCC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DA3B0-2B7F-46F9-AC5C-8B06F1F5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A3F4B-F141-46EA-8622-D965AC2C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EAB5E-EFAC-4E22-8B3B-58ADEAD4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7543-46AF-48AB-ACF5-1884AA38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C2D93-F05B-41E9-AD68-DCC178FE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CFB64-464E-4CBC-891B-E6550607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22538-496B-4638-B06F-D8AB20CC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936C32-D075-43F7-90CE-8F5EA954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95857-F128-4164-B5F6-3BC970B1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5414C-9B98-425A-AA59-04168BCE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CCBE9-2913-40FA-9202-DC3D9002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CA7BB-7EA8-4241-8E48-F44EC602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87638-D24C-4B0C-8ED9-F3828961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09F09-F506-4F5A-B230-C8F8386C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3288-99CE-4FFE-B28B-84F68A06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56CD0-6500-436C-8BF3-3F9F8775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2AF0DE-CD68-4CEE-8B0E-046E7444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4DF8B-78DD-4078-B88E-91A67177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E4ADE-BD02-47A4-9D10-A9CC55AA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5811D-817A-4DD5-8019-A3F29B17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C8C7-3238-4840-AE83-A00F9081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D990-82E6-420A-A62A-CBE3FDC7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B148-0FBB-4A3B-9A55-68C59640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94A9-78AC-4C07-8EC7-25BEB8A7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1600-A3A5-4C6B-B5D1-C96C0CFC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3BB-BB46-4638-9ECC-75B09BE3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530F-5D81-4B57-ADF6-EC41DC0F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B361-AC8A-4A79-B2FC-9215318F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FA31-0AD6-426B-9F21-F789E9EF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D125-AA7D-40E7-8BA7-2376231B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E6B8-BF45-4314-824F-CEA80CEF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24EF8-D729-4C58-B78E-E393E655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1AEF9-B8FB-4546-8E6B-369850EF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C3AA-6FE3-4593-A927-CD7A8EEC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24F72-E2BE-45C2-A113-192E52BC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5CBF4-C154-4FC0-A3D1-79A01655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B80-5D67-4A24-AF6F-E5E15694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0DE5-B78B-43A9-A827-5322686C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53432-BA43-4E04-A1DE-5A4344EC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64C05-A913-4B8E-AF47-E99F605B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DA05-E565-4ABE-8F31-B0529D69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6B4D-4C6C-4CC6-8DF9-EC3AAD5C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E721-4FA4-4D62-89F0-D8CC7E22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FE5FE-C313-45D7-B427-646B09D4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9AC05-DF49-4885-9E4A-2E6452C1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51674-0ABC-440A-B41F-8B658E6A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1DE5-40B9-4FA0-AC00-80A9A44E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D09-414C-4051-A66F-6BF5ACA5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B146B-371A-44AD-9E50-95265F76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F9B3A-1D11-419B-B448-56AE9D57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13746-6C7D-441F-A7B9-ACE91645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CA3DF-64D0-4E17-BCD8-50FA33E6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823FF-CEC9-4AA3-A974-9B071E5A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B04B5-BEF1-473D-BDC3-952A2278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D52F0-F900-42E7-B429-E53AB743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A24E1-C36A-4EFB-8E87-3161F8AD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864F2-F70E-4186-AA20-E317B034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4B49B-6B2A-4209-B0A9-70748CF4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13EC-3207-467D-BC63-6CF2B260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D4A27-5656-4391-A70F-99B3E21E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0CD81-A28B-426F-B5D3-083CB6E1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8CCB4-995E-4EF4-A3C1-7C0CE2C5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347A7-3940-4347-946E-8D97D57E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43F38-E568-46EC-8E8F-9CEB15C2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238A5-A573-4463-86CD-DA26D038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7726E-4848-4C5C-BE06-49337124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A044D-199F-4546-A6A5-7512B3F6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CA9B8-3998-4245-8F28-8FFC1888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F05F6-D7D3-450C-AA37-1915D84D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290-2013-4E5A-84F0-8AC175A9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DC017-32AC-4C56-B2F5-B94AA4AF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6E52E-A472-4854-A96C-E0D6BA6B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2D633-1144-4267-9D43-95B95FD0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3FA57-49EF-424E-9EFB-FD0C6593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4503B-A22A-4099-BB83-B163DFDE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9067A-9793-4FE0-8699-E34DAF48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491EF-30ED-41BF-A25B-AA3A1399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85C80-1758-42C2-A93B-F5376E9B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4D956-A1E5-4998-AF5E-6EE5E825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DD5F7-E7AE-4F3A-AF8D-75A6CB38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388B-5195-4BCB-8358-23542AFE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74E29-DE88-41DD-B79B-16DDE054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CB3DD-BE16-43BE-AACB-B3D605E7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D14C0-BB5D-46E7-9C25-397966A5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367F0-6216-45B6-A3C5-A6ED53AA1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ADBA0-2079-4351-956E-57B8F9C5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09DBF-A272-4659-9AB4-65AE1C44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97398-C2B1-4AFA-979F-617E95DD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6FAF6-3B06-4F29-B0CD-47E44970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B56A2-A2D5-4DE9-8126-4032D80F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791E1-D5E4-412A-882B-25150356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539E-01D4-40DF-8164-0B8B9C33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49FA3-2E04-4821-A3B8-EC43CE0F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7F08E-11B3-450D-84B7-DAECDC18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75903-3487-41E7-9C11-9924D077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FF514-FE69-4EF4-979A-B6BCDD24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EE743-CD62-48C5-A040-BA3A0898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B1EC0-FF3D-498F-B962-421A2E39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BE0C2-A095-47AA-9B11-F82E551C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D126F-3AE3-46AC-85CB-3CEFEB44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12C3C-3F31-4D9C-BDB7-BC716480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61678-47B4-4407-A791-01A15F82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043-FCEA-42E7-8753-BD200FDF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0273B-EE32-4458-92C1-F81826F4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10161-2C19-47FF-9378-7A374F1F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43F83-90CA-4958-8CBA-74CA3F88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5D10F-3045-4B15-9D25-9CE0BDC1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FB402-B0F3-4EA6-ADE6-53E0150B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A2B63-0FDB-4856-AB14-F659D25B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5D3E1-C0B2-4FE7-944B-75AB7348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B16C4-1B16-46AD-95D9-59720BED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7E730-F79A-42F2-9736-ADF699E5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949A49-5306-4518-9597-930FE866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C845-2A08-42EA-A47F-636ADCD9ADA6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5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EA75-12C8-4E15-B617-7C520A204354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DBA3-A1DB-4E38-B7C7-B22D1A384F05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1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5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6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7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28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4D0C-CDE7-4C21-9F1B-D9CE24BA8E2F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1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3751-B92B-4DE0-B21E-A7D889D6437A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5539-4340-4775-93C0-936D943FCF32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1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3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4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5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6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8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9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0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580B-AE4D-4294-9B60-90942310FEB7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9646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0CE5-9F4B-49A5-B04D-F71DB6FF9AF5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9646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1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4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5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6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7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29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0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0A16-4EF4-4158-BF90-42BB126533FA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7DF9-E016-457C-8C55-FD38103B8E94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5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50C7-340D-48D0-B4CA-E2F379E0A408}" type="slidenum">
              <a:rPr b="0" lang="es-PE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3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5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7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e7c5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91848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6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3C19-0723-44D3-8812-1483182495F5}" type="slidenum">
              <a:rPr b="0" lang="es-PE" sz="16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928440" y="3500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696464"/>
                </a:solidFill>
                <a:latin typeface="Georgia"/>
              </a:rPr>
              <a:t>DRA. YOLANDA RAMÍREZ VILLACORT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d34817"/>
                </a:solidFill>
                <a:latin typeface="Georgia"/>
              </a:rPr>
              <a:t>GLOBALIZACION Y EDUCACION</a:t>
            </a:r>
            <a:endParaRPr b="0" lang="en-US" sz="4400" spc="-1" strike="noStrike">
              <a:solidFill>
                <a:srgbClr val="8e7c5c"/>
              </a:solidFill>
              <a:latin typeface="Georgia"/>
            </a:endParaRPr>
          </a:p>
        </p:txBody>
      </p:sp>
      <p:pic>
        <p:nvPicPr>
          <p:cNvPr id="615" name="Picture 5" descr="C:\Users\TOSHIBA\Pictures\Galería multimedia de Microsoft\j0254486.gif"/>
          <p:cNvPicPr/>
          <p:nvPr/>
        </p:nvPicPr>
        <p:blipFill>
          <a:blip r:embed="rId1"/>
          <a:stretch/>
        </p:blipFill>
        <p:spPr>
          <a:xfrm>
            <a:off x="1857240" y="4643280"/>
            <a:ext cx="1928880" cy="14148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C:\Users\TOSHIBA\AppData\Local\Microsoft\Windows\Temporary Internet Files\Content.IE5\IRO1Z2ID\MCj03418590000[1].jpg"/>
          <p:cNvPicPr/>
          <p:nvPr/>
        </p:nvPicPr>
        <p:blipFill>
          <a:blip r:embed="rId2"/>
          <a:stretch/>
        </p:blipFill>
        <p:spPr>
          <a:xfrm>
            <a:off x="5500800" y="4357800"/>
            <a:ext cx="270972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3628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4e1610"/>
                </a:solidFill>
                <a:latin typeface="Georgia"/>
              </a:rPr>
              <a:t>GLOBALIZACIÓN Y CULTURA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42560" y="135684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300" spc="-1" strike="noStrike">
                <a:solidFill>
                  <a:srgbClr val="000000"/>
                </a:solidFill>
                <a:latin typeface="Georgia"/>
              </a:rPr>
              <a:t>Algunos teóricos plantean que la globalización es el resultado de un plan con connotaciones ideológicas: </a:t>
            </a:r>
            <a:r>
              <a:rPr b="1" i="1" lang="es-PE" sz="2300" spc="-1" strike="noStrike">
                <a:solidFill>
                  <a:srgbClr val="742217"/>
                </a:solidFill>
                <a:latin typeface="Georgia"/>
              </a:rPr>
              <a:t>más allá de ser un fenómeno económico derivado de la revolución tecnológica y de la comunicación, conlleva una visión única de la sociedad, la cultura y la educación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82600">
              <a:lnSpc>
                <a:spcPct val="90000"/>
              </a:lnSpc>
              <a:spcBef>
                <a:spcPts val="30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300" spc="-1" strike="noStrike">
                <a:solidFill>
                  <a:srgbClr val="000000"/>
                </a:solidFill>
                <a:latin typeface="Georgia"/>
              </a:rPr>
              <a:t>En el área de la cultura contemplamos una tendencia a la homogenización, produciéndose la erosión de las culturas locales e indígenas: </a:t>
            </a:r>
            <a:r>
              <a:rPr b="1" i="1" lang="es-PE" sz="2300" spc="-1" strike="noStrike">
                <a:solidFill>
                  <a:srgbClr val="742217"/>
                </a:solidFill>
                <a:latin typeface="Georgia"/>
              </a:rPr>
              <a:t>la cultura de masas, de consumo, de tipo occidental se ha convertido en un "universal cultural" que impregna a todo el mundo.</a:t>
            </a:r>
            <a:br>
              <a:rPr sz="2300"/>
            </a:br>
            <a:r>
              <a:rPr b="1" i="1" lang="es-PE" sz="2300" spc="-1" strike="noStrike">
                <a:solidFill>
                  <a:srgbClr val="7c6b4d"/>
                </a:solidFill>
                <a:latin typeface="Georg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4" descr="C:\Users\TOSHIBA\Documents\MIS DOCUMENTOS\Mis imágenes\Galería multimedia de Microsoft\j0336344.gif"/>
          <p:cNvPicPr/>
          <p:nvPr/>
        </p:nvPicPr>
        <p:blipFill>
          <a:blip r:embed="rId1"/>
          <a:stretch/>
        </p:blipFill>
        <p:spPr>
          <a:xfrm>
            <a:off x="7572240" y="2857680"/>
            <a:ext cx="1285920" cy="1468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42217"/>
                </a:solidFill>
                <a:latin typeface="Georgia"/>
              </a:rPr>
              <a:t>GLOBALIZACIÓN Y TRANSFORMACIONES:</a:t>
            </a:r>
            <a:endParaRPr b="0" lang="en-US" sz="32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 u="sng">
                <a:solidFill>
                  <a:srgbClr val="000000"/>
                </a:solidFill>
                <a:uFillTx/>
                <a:latin typeface="Georgia"/>
              </a:rPr>
              <a:t>EN LA FAMILIA</a:t>
            </a:r>
            <a:r>
              <a:rPr b="1" lang="es-PE" sz="2500" spc="-1" strike="noStrike">
                <a:solidFill>
                  <a:srgbClr val="000000"/>
                </a:solidFill>
                <a:latin typeface="Georgia"/>
              </a:rPr>
              <a:t>:  la disociación entre la </a:t>
            </a:r>
            <a:r>
              <a:rPr b="1" lang="es-PE" sz="2500" spc="-1" strike="noStrike">
                <a:solidFill>
                  <a:srgbClr val="742217"/>
                </a:solidFill>
                <a:latin typeface="Georgia"/>
              </a:rPr>
              <a:t>conyugalidad (</a:t>
            </a:r>
            <a:r>
              <a:rPr b="1" lang="es-PE" sz="2500" spc="-1" strike="noStrike">
                <a:solidFill>
                  <a:srgbClr val="000000"/>
                </a:solidFill>
                <a:latin typeface="Georgia"/>
              </a:rPr>
              <a:t>vínculos de pareja, que se disuelve, por ser social) y </a:t>
            </a:r>
            <a:r>
              <a:rPr b="1" lang="es-PE" sz="2500" spc="-1" strike="noStrike">
                <a:solidFill>
                  <a:srgbClr val="742217"/>
                </a:solidFill>
                <a:latin typeface="Georgia"/>
              </a:rPr>
              <a:t>filiación</a:t>
            </a:r>
            <a:r>
              <a:rPr b="1" lang="es-PE" sz="25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s-PE" sz="2500" spc="-1" strike="noStrike">
                <a:solidFill>
                  <a:srgbClr val="000000"/>
                </a:solidFill>
                <a:latin typeface="Georgia"/>
              </a:rPr>
              <a:t>(vínculos entre padres e hijos, que se mantiene por ser natural)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82600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 u="sng">
                <a:solidFill>
                  <a:srgbClr val="000000"/>
                </a:solidFill>
                <a:uFillTx/>
                <a:latin typeface="Georgia"/>
              </a:rPr>
              <a:t>EN EL SER</a:t>
            </a:r>
            <a:r>
              <a:rPr b="1" lang="es-PE" sz="2500" spc="-1" strike="noStrike">
                <a:solidFill>
                  <a:srgbClr val="000000"/>
                </a:solidFill>
                <a:latin typeface="Georgia"/>
              </a:rPr>
              <a:t>: el </a:t>
            </a:r>
            <a:r>
              <a:rPr b="1" lang="es-PE" sz="2500" spc="-1" strike="noStrike">
                <a:solidFill>
                  <a:srgbClr val="69240c"/>
                </a:solidFill>
                <a:latin typeface="Georgia"/>
              </a:rPr>
              <a:t>individualismo</a:t>
            </a:r>
            <a:r>
              <a:rPr b="1" lang="es-PE" sz="2500" spc="-1" strike="noStrike">
                <a:solidFill>
                  <a:srgbClr val="000000"/>
                </a:solidFill>
                <a:latin typeface="Georgia"/>
              </a:rPr>
              <a:t>, que se basa en que cada persona es “única”, pero depende cada vez más de lo material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82600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 u="sng">
                <a:solidFill>
                  <a:srgbClr val="000000"/>
                </a:solidFill>
                <a:uFillTx/>
                <a:latin typeface="Georgia"/>
              </a:rPr>
              <a:t>EN LA TECNOLOGÍA</a:t>
            </a:r>
            <a:r>
              <a:rPr b="1" lang="es-PE" sz="25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1" lang="es-PE" sz="2500" spc="-1" strike="noStrike">
                <a:solidFill>
                  <a:srgbClr val="69240c"/>
                </a:solidFill>
                <a:latin typeface="Georgia"/>
              </a:rPr>
              <a:t>las TICs </a:t>
            </a:r>
            <a:r>
              <a:rPr b="1" lang="es-PE" sz="2500" spc="-1" strike="noStrike">
                <a:solidFill>
                  <a:srgbClr val="000000"/>
                </a:solidFill>
                <a:latin typeface="Georgia"/>
              </a:rPr>
              <a:t>que han alterado las relaciones sociales y los procesos de comunicación y educación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82600">
              <a:lnSpc>
                <a:spcPct val="80000"/>
              </a:lnSpc>
              <a:spcBef>
                <a:spcPts val="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742217"/>
                </a:solidFill>
                <a:latin typeface="Georgia"/>
              </a:rPr>
              <a:t>GLOBALIZACIÓN Y EDUCACIÓN: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pic>
        <p:nvPicPr>
          <p:cNvPr id="675" name="4 Diagrama" descr=""/>
          <p:cNvPicPr/>
          <p:nvPr/>
        </p:nvPicPr>
        <p:blipFill>
          <a:blip r:embed="rId1"/>
          <a:stretch/>
        </p:blipFill>
        <p:spPr>
          <a:xfrm>
            <a:off x="706320" y="1384200"/>
            <a:ext cx="7871040" cy="4986360"/>
          </a:xfrm>
          <a:prstGeom prst="rect">
            <a:avLst/>
          </a:prstGeom>
          <a:ln w="0">
            <a:noFill/>
          </a:ln>
        </p:spPr>
      </p:pic>
      <p:cxnSp>
        <p:nvCxnSpPr>
          <p:cNvPr id="676" name="7 Conector recto de flecha"/>
          <p:cNvCxnSpPr/>
          <p:nvPr/>
        </p:nvCxnSpPr>
        <p:spPr>
          <a:xfrm flipV="1">
            <a:off x="4570560" y="2571480"/>
            <a:ext cx="3600" cy="429120"/>
          </a:xfrm>
          <a:prstGeom prst="straightConnector1">
            <a:avLst/>
          </a:prstGeom>
          <a:ln w="9360">
            <a:solidFill>
              <a:srgbClr val="d34817"/>
            </a:solidFill>
            <a:miter/>
            <a:tailEnd len="med" type="triangle" w="med"/>
          </a:ln>
        </p:spPr>
      </p:cxnSp>
      <p:cxnSp>
        <p:nvCxnSpPr>
          <p:cNvPr id="677" name="9 Conector recto de flecha"/>
          <p:cNvCxnSpPr/>
          <p:nvPr/>
        </p:nvCxnSpPr>
        <p:spPr>
          <a:xfrm flipV="1">
            <a:off x="5929200" y="3357360"/>
            <a:ext cx="215280" cy="143280"/>
          </a:xfrm>
          <a:prstGeom prst="straightConnector1">
            <a:avLst/>
          </a:prstGeom>
          <a:ln w="9360">
            <a:solidFill>
              <a:srgbClr val="d34817"/>
            </a:solidFill>
            <a:miter/>
            <a:tailEnd len="med" type="triangle" w="med"/>
          </a:ln>
        </p:spPr>
      </p:cxnSp>
      <p:cxnSp>
        <p:nvCxnSpPr>
          <p:cNvPr id="678" name="11 Conector recto de flecha"/>
          <p:cNvCxnSpPr/>
          <p:nvPr/>
        </p:nvCxnSpPr>
        <p:spPr>
          <a:xfrm>
            <a:off x="5786280" y="4429080"/>
            <a:ext cx="286560" cy="286560"/>
          </a:xfrm>
          <a:prstGeom prst="straightConnector1">
            <a:avLst/>
          </a:prstGeom>
          <a:ln w="9360">
            <a:solidFill>
              <a:srgbClr val="d34817"/>
            </a:solidFill>
            <a:miter/>
            <a:tailEnd len="med" type="triangle" w="med"/>
          </a:ln>
        </p:spPr>
      </p:cxnSp>
      <p:cxnSp>
        <p:nvCxnSpPr>
          <p:cNvPr id="679" name="13 Conector recto de flecha"/>
          <p:cNvCxnSpPr/>
          <p:nvPr/>
        </p:nvCxnSpPr>
        <p:spPr>
          <a:xfrm flipH="1">
            <a:off x="4642560" y="4788000"/>
            <a:ext cx="2520" cy="357840"/>
          </a:xfrm>
          <a:prstGeom prst="straightConnector1">
            <a:avLst/>
          </a:prstGeom>
          <a:ln w="9360">
            <a:solidFill>
              <a:srgbClr val="d34817"/>
            </a:solidFill>
            <a:miter/>
            <a:tailEnd len="med" type="triangle" w="med"/>
          </a:ln>
        </p:spPr>
      </p:cxnSp>
      <p:cxnSp>
        <p:nvCxnSpPr>
          <p:cNvPr id="680" name="15 Conector recto de flecha"/>
          <p:cNvCxnSpPr/>
          <p:nvPr/>
        </p:nvCxnSpPr>
        <p:spPr>
          <a:xfrm flipH="1">
            <a:off x="3142800" y="4356720"/>
            <a:ext cx="286560" cy="214920"/>
          </a:xfrm>
          <a:prstGeom prst="straightConnector1">
            <a:avLst/>
          </a:prstGeom>
          <a:ln w="9360">
            <a:solidFill>
              <a:srgbClr val="d34817"/>
            </a:solidFill>
            <a:miter/>
            <a:tailEnd len="med" type="triangle" w="med"/>
          </a:ln>
        </p:spPr>
      </p:cxnSp>
      <p:cxnSp>
        <p:nvCxnSpPr>
          <p:cNvPr id="681" name="17 Conector recto de flecha"/>
          <p:cNvCxnSpPr/>
          <p:nvPr/>
        </p:nvCxnSpPr>
        <p:spPr>
          <a:xfrm flipH="1" flipV="1">
            <a:off x="3214080" y="3285360"/>
            <a:ext cx="286200" cy="72360"/>
          </a:xfrm>
          <a:prstGeom prst="straightConnector1">
            <a:avLst/>
          </a:prstGeom>
          <a:ln w="9360">
            <a:solidFill>
              <a:srgbClr val="d34817"/>
            </a:solidFill>
            <a:miter/>
            <a:tailEnd len="med" type="triangle" w="med"/>
          </a:ln>
        </p:spPr>
      </p:cxn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200" spc="-1" strike="noStrike">
                <a:solidFill>
                  <a:srgbClr val="d34817"/>
                </a:solidFill>
                <a:latin typeface="Georgia"/>
              </a:rPr>
              <a:t>ALGUNAS REFLEXIONES</a:t>
            </a:r>
            <a:endParaRPr b="0" lang="en-US" sz="4200" spc="-1" strike="noStrike">
              <a:solidFill>
                <a:srgbClr val="8e7c5c"/>
              </a:solidFill>
              <a:latin typeface="Georgia"/>
            </a:endParaRPr>
          </a:p>
        </p:txBody>
      </p:sp>
      <p:pic>
        <p:nvPicPr>
          <p:cNvPr id="683" name="Picture 3" descr=""/>
          <p:cNvPicPr/>
          <p:nvPr/>
        </p:nvPicPr>
        <p:blipFill>
          <a:blip r:embed="rId1"/>
          <a:stretch/>
        </p:blipFill>
        <p:spPr>
          <a:xfrm>
            <a:off x="2071800" y="3000240"/>
            <a:ext cx="4838760" cy="3248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428400" y="428400"/>
            <a:ext cx="72183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Georgia"/>
              </a:rPr>
              <a:t>Los procesos educativos,  deben traducirse en acciones tales como: </a:t>
            </a:r>
            <a:r>
              <a:rPr b="1" i="1" lang="es-ES" sz="2700" spc="-1" strike="noStrike">
                <a:solidFill>
                  <a:srgbClr val="c00000"/>
                </a:solidFill>
                <a:latin typeface="Georgia"/>
              </a:rPr>
              <a:t>flexibilidad de criterios, creación de ambientes positivos, aprendizajes autónomos, formación de habilidades, hábitos de conciencia reflexivas, críticas y creadoras</a:t>
            </a:r>
            <a:r>
              <a:rPr b="1" lang="es-ES" sz="2700" spc="-1" strike="noStrike">
                <a:solidFill>
                  <a:srgbClr val="000000"/>
                </a:solidFill>
                <a:latin typeface="Georgia"/>
              </a:rPr>
              <a:t>, accionando nuevas estrategias de presentar los contenidos, considerando la manera en como las comunidades producen y transmiten los conocimiento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5" name="Picture 6" descr="C:\Users\TOSHIBA\Pictures\Galería multimedia de Microsoft\j0236371.gif"/>
          <p:cNvPicPr/>
          <p:nvPr/>
        </p:nvPicPr>
        <p:blipFill>
          <a:blip r:embed="rId1"/>
          <a:stretch/>
        </p:blipFill>
        <p:spPr>
          <a:xfrm>
            <a:off x="7286760" y="2000160"/>
            <a:ext cx="1500120" cy="14781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9" descr="C:\Users\TOSHIBA\Pictures\Galería multimedia de Microsoft\j0286780.gif"/>
          <p:cNvPicPr/>
          <p:nvPr/>
        </p:nvPicPr>
        <p:blipFill>
          <a:blip r:embed="rId2"/>
          <a:stretch/>
        </p:blipFill>
        <p:spPr>
          <a:xfrm>
            <a:off x="6862680" y="4857840"/>
            <a:ext cx="149544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5" descr="j0297265"/>
          <p:cNvPicPr/>
          <p:nvPr/>
        </p:nvPicPr>
        <p:blipFill>
          <a:blip r:embed="rId1"/>
          <a:stretch/>
        </p:blipFill>
        <p:spPr>
          <a:xfrm>
            <a:off x="7143840" y="392904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 txBox="1"/>
          <p:nvPr/>
        </p:nvSpPr>
        <p:spPr>
          <a:xfrm>
            <a:off x="428760" y="1329840"/>
            <a:ext cx="664344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Georgia"/>
              </a:rPr>
              <a:t>Mediante la liberación cultural</a:t>
            </a:r>
            <a:r>
              <a:rPr b="1" lang="es-ES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eorgia"/>
              </a:rPr>
              <a:t>erradicar prácticas etnocentristas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eorgia"/>
              </a:rPr>
              <a:t>ser cada día menos colonizados y más concientizados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eorgia"/>
              </a:rPr>
              <a:t>romper las cadenas de inferioridad y de subestimación que se tienen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eorgia"/>
              </a:rPr>
              <a:t>respetar las multiexpresiones culturales de los pueblo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44646"/>
                </a:solidFill>
                <a:latin typeface="Georgia"/>
              </a:rPr>
              <a:t>Y ¿COMO FORTALECER UNA IDENTIDAD CULTURAL BASADA EN LA DIVERSIDAD ?</a:t>
            </a:r>
            <a:endParaRPr b="0" lang="en-US" sz="2400" spc="-1" strike="noStrike">
              <a:solidFill>
                <a:srgbClr val="8e7c5c"/>
              </a:solidFill>
              <a:latin typeface="Georgia"/>
            </a:endParaRPr>
          </a:p>
        </p:txBody>
      </p:sp>
      <p:pic>
        <p:nvPicPr>
          <p:cNvPr id="690" name="Picture 3" descr="C:\Users\TOSHIBA\Pictures\Galería multimedia de Microsoft\AG00425_.gif"/>
          <p:cNvPicPr/>
          <p:nvPr/>
        </p:nvPicPr>
        <p:blipFill>
          <a:blip r:embed="rId2"/>
          <a:stretch/>
        </p:blipFill>
        <p:spPr>
          <a:xfrm rot="808200">
            <a:off x="6662880" y="1785960"/>
            <a:ext cx="20286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5" descr="j0297265"/>
          <p:cNvPicPr/>
          <p:nvPr/>
        </p:nvPicPr>
        <p:blipFill>
          <a:blip r:embed="rId1"/>
          <a:stretch/>
        </p:blipFill>
        <p:spPr>
          <a:xfrm>
            <a:off x="7143840" y="392904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 txBox="1"/>
          <p:nvPr/>
        </p:nvSpPr>
        <p:spPr>
          <a:xfrm>
            <a:off x="285840" y="1329840"/>
            <a:ext cx="714384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99"/>
                </a:solidFill>
                <a:latin typeface="Georgia"/>
              </a:rPr>
              <a:t>Mediante la liberación cultural</a:t>
            </a:r>
            <a:r>
              <a:rPr b="1" lang="es-ES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Georgia"/>
              </a:rPr>
              <a:t>combatir la "enajenación cultural" que se manifiesta en la necesidad de copiarlo todo de las metrópolis llamadas desarrolladas (valores, formas de vida, normas, formas artísticas etc.) que nos conducen a una dependencia alienante, para continuar sosteniendo una situación de subdesarrollo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c00000"/>
                </a:solidFill>
                <a:latin typeface="Georgia"/>
              </a:rPr>
              <a:t>ser cada día más auténticos y original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44646"/>
                </a:solidFill>
                <a:latin typeface="Georgia"/>
              </a:rPr>
              <a:t>Y ¿COMO FORTALECER UNA IDENTIDAD CULTURAL BASADA EN LA DIVERSIDAD ?</a:t>
            </a:r>
            <a:endParaRPr b="0" lang="en-US" sz="2400" spc="-1" strike="noStrike">
              <a:solidFill>
                <a:srgbClr val="8e7c5c"/>
              </a:solidFill>
              <a:latin typeface="Georgia"/>
            </a:endParaRPr>
          </a:p>
        </p:txBody>
      </p:sp>
      <p:pic>
        <p:nvPicPr>
          <p:cNvPr id="694" name="Picture 3" descr="C:\Users\TOSHIBA\Pictures\Galería multimedia de Microsoft\AG00425_.gif"/>
          <p:cNvPicPr/>
          <p:nvPr/>
        </p:nvPicPr>
        <p:blipFill>
          <a:blip r:embed="rId2"/>
          <a:stretch/>
        </p:blipFill>
        <p:spPr>
          <a:xfrm rot="808200">
            <a:off x="6662880" y="1785960"/>
            <a:ext cx="20286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3 Rectángulo" descr=""/>
          <p:cNvPicPr/>
          <p:nvPr/>
        </p:nvPicPr>
        <p:blipFill>
          <a:blip r:embed="rId1"/>
          <a:stretch/>
        </p:blipFill>
        <p:spPr>
          <a:xfrm>
            <a:off x="353880" y="2998800"/>
            <a:ext cx="6059520" cy="25732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mains-05"/>
          <p:cNvPicPr/>
          <p:nvPr/>
        </p:nvPicPr>
        <p:blipFill>
          <a:blip r:embed="rId2"/>
          <a:stretch/>
        </p:blipFill>
        <p:spPr>
          <a:xfrm>
            <a:off x="5786280" y="4000680"/>
            <a:ext cx="2286000" cy="20714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5" descr=""/>
          <p:cNvPicPr/>
          <p:nvPr/>
        </p:nvPicPr>
        <p:blipFill>
          <a:blip r:embed="rId3"/>
          <a:stretch/>
        </p:blipFill>
        <p:spPr>
          <a:xfrm>
            <a:off x="4500720" y="428760"/>
            <a:ext cx="4286160" cy="27716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" descr=""/>
          <p:cNvPicPr/>
          <p:nvPr/>
        </p:nvPicPr>
        <p:blipFill>
          <a:blip r:embed="rId4"/>
          <a:stretch/>
        </p:blipFill>
        <p:spPr>
          <a:xfrm>
            <a:off x="428760" y="500040"/>
            <a:ext cx="4029120" cy="2771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742217"/>
                </a:solidFill>
                <a:latin typeface="Georgia"/>
              </a:rPr>
              <a:t>GLOBALIZACION</a:t>
            </a:r>
            <a:endParaRPr b="0" lang="en-US" sz="40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357200"/>
            <a:ext cx="85042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Georgia"/>
              </a:rPr>
              <a:t>VISIÓN NEOLIBERAL CAPITALISTA: la globalización es un proceso esencialmente económico que apunta a la liberalización de los mercados y a la integración de las economías nacionales en un nuevo orden glob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2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Georgia"/>
              </a:rPr>
              <a:t>Desde esa cosmovisión decir globalización es decir occidentalización a la manera imperialista de los EEUU, dado que la economía mundial está cada vez más dominada por el poder económico de los EEUU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3" descr="C:\Users\TOSHIBA\Pictures\Galería multimedia de Microsoft\j0254484.gif"/>
          <p:cNvPicPr/>
          <p:nvPr/>
        </p:nvPicPr>
        <p:blipFill>
          <a:blip r:embed="rId1"/>
          <a:stretch/>
        </p:blipFill>
        <p:spPr>
          <a:xfrm>
            <a:off x="3929040" y="5143680"/>
            <a:ext cx="2357640" cy="13460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742217"/>
                </a:solidFill>
                <a:latin typeface="Georgia"/>
              </a:rPr>
              <a:t>GLOBALIZACION COMO TEORIA DEL DESARROLLO</a:t>
            </a:r>
            <a:endParaRPr b="0" lang="en-US" sz="28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5880" y="1357200"/>
            <a:ext cx="805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Uno de sus postulados esencial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4e1610"/>
                </a:solidFill>
                <a:latin typeface="Georgia"/>
              </a:rPr>
              <a:t>mayor nivel de integra</a:t>
            </a:r>
            <a:r>
              <a:rPr b="1" i="1" lang="es-ES" sz="2600" spc="-1" strike="noStrike">
                <a:solidFill>
                  <a:srgbClr val="4e1610"/>
                </a:solidFill>
                <a:latin typeface="Georgia"/>
              </a:rPr>
              <a:t>ción </a:t>
            </a:r>
            <a:r>
              <a:rPr b="1" lang="es-ES" sz="2600" spc="-1" strike="noStrike">
                <a:solidFill>
                  <a:srgbClr val="000000"/>
                </a:solidFill>
                <a:latin typeface="Georgia"/>
              </a:rPr>
              <a:t>entre las diferentes regiones del mundo, y que ese nivel de integración está </a:t>
            </a:r>
            <a:r>
              <a:rPr b="1" i="1" lang="es-ES" sz="2600" spc="-1" strike="noStrike">
                <a:solidFill>
                  <a:srgbClr val="4e1610"/>
                </a:solidFill>
                <a:latin typeface="Georgia"/>
              </a:rPr>
              <a:t>afectando las condiciones sociales y económicas de los países.</a:t>
            </a:r>
            <a:endParaRPr b="0" lang="en-US" sz="2600" spc="-1" strike="noStrike">
              <a:solidFill>
                <a:srgbClr val="696464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464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Los niveles de mayor integración se evidencian e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Georgia"/>
              </a:rPr>
              <a:t>Las relaciones comerciales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Georgia"/>
              </a:rPr>
              <a:t>Los flujos financieros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Georgia"/>
              </a:rPr>
              <a:t>El turismo 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80000"/>
              </a:lnSpc>
              <a:spcBef>
                <a:spcPts val="601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Georgia"/>
              </a:rPr>
              <a:t>Las comunicacion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Picture 4" descr="C:\Users\TOSHIBA\Pictures\Galería multimedia de Microsoft\j0284152.gif"/>
          <p:cNvPicPr/>
          <p:nvPr/>
        </p:nvPicPr>
        <p:blipFill>
          <a:blip r:embed="rId1"/>
          <a:stretch/>
        </p:blipFill>
        <p:spPr>
          <a:xfrm>
            <a:off x="6786720" y="4429080"/>
            <a:ext cx="1357200" cy="12146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742217"/>
                </a:solidFill>
                <a:latin typeface="Georgia"/>
              </a:rPr>
              <a:t>GLOBALIZACION Y DESARROLLO</a:t>
            </a:r>
            <a:endParaRPr b="0" lang="en-US" sz="36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85480" y="14475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e1610"/>
                </a:solidFill>
                <a:latin typeface="Arial Unicode MS"/>
                <a:ea typeface="Arial Unicode MS"/>
              </a:rPr>
              <a:t>En el marco de la globalización se subrayan especialmente dos grandes tendencias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los sistemas de comunicación mundial</a:t>
            </a:r>
            <a:r>
              <a:rPr b="1" lang="es-ES" sz="2800" spc="-1" strike="noStrike">
                <a:solidFill>
                  <a:srgbClr val="4e1610"/>
                </a:solidFill>
                <a:latin typeface="Arial Unicode MS"/>
                <a:ea typeface="Arial Unicode MS"/>
              </a:rPr>
              <a:t>; y</a:t>
            </a:r>
            <a:endParaRPr b="0" lang="en-US" sz="2800" spc="-1" strike="noStrike">
              <a:solidFill>
                <a:srgbClr val="696464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6464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las condiciones económicas</a:t>
            </a:r>
            <a:r>
              <a:rPr b="1" lang="es-ES" sz="2800" spc="-1" strike="noStrike">
                <a:solidFill>
                  <a:srgbClr val="4e1610"/>
                </a:solidFill>
                <a:latin typeface="Arial Unicode MS"/>
                <a:ea typeface="Arial Unicode MS"/>
              </a:rPr>
              <a:t>, especialmente aquellas relacionadas con la movilidad de los recursos financieros y comerciales.</a:t>
            </a:r>
            <a:endParaRPr b="0" lang="en-US" sz="2800" spc="-1" strike="noStrike">
              <a:solidFill>
                <a:srgbClr val="696464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5" name="Picture 5" descr="C:\Users\TOSHIBA\Documents\MIS DOCUMENTOS\Mis imágenes\Galería multimedia de Microsoft\j0283863.gif"/>
          <p:cNvPicPr/>
          <p:nvPr/>
        </p:nvPicPr>
        <p:blipFill>
          <a:blip r:embed="rId1"/>
          <a:stretch/>
        </p:blipFill>
        <p:spPr>
          <a:xfrm>
            <a:off x="7929720" y="3143160"/>
            <a:ext cx="904680" cy="1400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C:\Users\TOSHIBA\Documents\MIS DOCUMENTOS\Mis imágenes\Galería multimedia de Microsoft\j0236452.gif"/>
          <p:cNvPicPr/>
          <p:nvPr/>
        </p:nvPicPr>
        <p:blipFill>
          <a:blip r:embed="rId2"/>
          <a:stretch/>
        </p:blipFill>
        <p:spPr>
          <a:xfrm>
            <a:off x="6786720" y="5286240"/>
            <a:ext cx="135720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69240c"/>
                </a:solidFill>
                <a:latin typeface="Georgia"/>
              </a:rPr>
              <a:t>INFLUENCIA DE LA GLOBALIZACION</a:t>
            </a:r>
            <a:endParaRPr b="0" lang="en-US" sz="32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28400" y="1357200"/>
            <a:ext cx="542916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En las conductas personales y colectivas,         por la forma de difundir el mensaje ideológico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A través d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la lengua oral y escrita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las imágen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C:\Users\TOSHIBA\Pictures\Galería multimedia de Microsoft\j0323810.gif"/>
          <p:cNvPicPr/>
          <p:nvPr/>
        </p:nvPicPr>
        <p:blipFill>
          <a:blip r:embed="rId1"/>
          <a:stretch/>
        </p:blipFill>
        <p:spPr>
          <a:xfrm>
            <a:off x="3714840" y="442908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630" name="4 Flecha a la derecha con bandas"/>
          <p:cNvSpPr/>
          <p:nvPr/>
        </p:nvSpPr>
        <p:spPr>
          <a:xfrm>
            <a:off x="5072040" y="3000240"/>
            <a:ext cx="1000080" cy="857520"/>
          </a:xfrm>
          <a:prstGeom prst="pie">
            <a:avLst/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5 CuadroTexto"/>
          <p:cNvSpPr/>
          <p:nvPr/>
        </p:nvSpPr>
        <p:spPr>
          <a:xfrm>
            <a:off x="6215040" y="2857680"/>
            <a:ext cx="264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netra en el espacio vivencial de los sujetos, y en las formas de vida: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6 Flecha a la derecha con bandas"/>
          <p:cNvSpPr/>
          <p:nvPr/>
        </p:nvSpPr>
        <p:spPr>
          <a:xfrm>
            <a:off x="2571840" y="1857240"/>
            <a:ext cx="428400" cy="214560"/>
          </a:xfrm>
          <a:prstGeom prst="pie">
            <a:avLst/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36 Esquina doblada"/>
          <p:cNvSpPr/>
          <p:nvPr/>
        </p:nvSpPr>
        <p:spPr>
          <a:xfrm>
            <a:off x="5286240" y="4929120"/>
            <a:ext cx="3286440" cy="1143000"/>
          </a:xfrm>
          <a:prstGeom prst="foldedCorner">
            <a:avLst>
              <a:gd name="adj" fmla="val 16666"/>
            </a:avLst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35 Esquina doblada"/>
          <p:cNvSpPr/>
          <p:nvPr/>
        </p:nvSpPr>
        <p:spPr>
          <a:xfrm>
            <a:off x="3214800" y="5143680"/>
            <a:ext cx="1285920" cy="500040"/>
          </a:xfrm>
          <a:prstGeom prst="foldedCorner">
            <a:avLst>
              <a:gd name="adj" fmla="val 16666"/>
            </a:avLst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34 Esquina doblada"/>
          <p:cNvSpPr/>
          <p:nvPr/>
        </p:nvSpPr>
        <p:spPr>
          <a:xfrm>
            <a:off x="1000080" y="5000760"/>
            <a:ext cx="1143000" cy="500040"/>
          </a:xfrm>
          <a:prstGeom prst="foldedCorner">
            <a:avLst>
              <a:gd name="adj" fmla="val 16666"/>
            </a:avLst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18 Terminador"/>
          <p:cNvSpPr/>
          <p:nvPr/>
        </p:nvSpPr>
        <p:spPr>
          <a:xfrm>
            <a:off x="5500800" y="3357720"/>
            <a:ext cx="2643120" cy="571320"/>
          </a:xfrm>
          <a:prstGeom prst="flowChartTerminator">
            <a:avLst/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17 Terminador"/>
          <p:cNvSpPr/>
          <p:nvPr/>
        </p:nvSpPr>
        <p:spPr>
          <a:xfrm>
            <a:off x="3357720" y="3357720"/>
            <a:ext cx="1785960" cy="500040"/>
          </a:xfrm>
          <a:prstGeom prst="flowChartTerminator">
            <a:avLst/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16 Terminador"/>
          <p:cNvSpPr/>
          <p:nvPr/>
        </p:nvSpPr>
        <p:spPr>
          <a:xfrm>
            <a:off x="785880" y="3357720"/>
            <a:ext cx="2143080" cy="500040"/>
          </a:xfrm>
          <a:prstGeom prst="flowChartTerminator">
            <a:avLst/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15 Documento"/>
          <p:cNvSpPr/>
          <p:nvPr/>
        </p:nvSpPr>
        <p:spPr>
          <a:xfrm>
            <a:off x="2643120" y="2428920"/>
            <a:ext cx="4071960" cy="571320"/>
          </a:xfrm>
          <a:prstGeom prst="flowChartDocument">
            <a:avLst/>
          </a:prstGeom>
          <a:solidFill>
            <a:srgbClr val="00b0f0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13 Rectángulo redondeado"/>
          <p:cNvSpPr/>
          <p:nvPr/>
        </p:nvSpPr>
        <p:spPr>
          <a:xfrm>
            <a:off x="1357200" y="1428840"/>
            <a:ext cx="6715080" cy="57132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742217"/>
                </a:solidFill>
                <a:latin typeface="Georgia"/>
              </a:rPr>
              <a:t>DEPENDENCIA Y GLOBALIZACION</a:t>
            </a:r>
            <a:endParaRPr b="0" lang="en-US" sz="3200" spc="-1" strike="noStrike">
              <a:solidFill>
                <a:srgbClr val="8e7c5c"/>
              </a:solidFill>
              <a:latin typeface="Georgia"/>
            </a:endParaRPr>
          </a:p>
        </p:txBody>
      </p:sp>
      <p:pic>
        <p:nvPicPr>
          <p:cNvPr id="642" name="Picture 2" descr="C:\Users\TOSHIBA\AppData\Local\Microsoft\Windows\Temporary Internet Files\Content.IE5\JWFB3G7D\MCj01993380000[1].wmf"/>
          <p:cNvPicPr/>
          <p:nvPr/>
        </p:nvPicPr>
        <p:blipFill>
          <a:blip r:embed="rId1"/>
          <a:stretch/>
        </p:blipFill>
        <p:spPr>
          <a:xfrm>
            <a:off x="500040" y="5357880"/>
            <a:ext cx="2621160" cy="1249200"/>
          </a:xfrm>
          <a:prstGeom prst="rect">
            <a:avLst/>
          </a:prstGeom>
          <a:ln w="0">
            <a:noFill/>
          </a:ln>
        </p:spPr>
      </p:pic>
      <p:sp>
        <p:nvSpPr>
          <p:cNvPr id="643" name="4 CuadroTexto"/>
          <p:cNvSpPr/>
          <p:nvPr/>
        </p:nvSpPr>
        <p:spPr>
          <a:xfrm>
            <a:off x="1357200" y="1500120"/>
            <a:ext cx="67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N SOCIEDADES DEPENDIENTES CULTUR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5 CuadroTexto"/>
          <p:cNvSpPr/>
          <p:nvPr/>
        </p:nvSpPr>
        <p:spPr>
          <a:xfrm>
            <a:off x="785880" y="340524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De tec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6 CuadroTexto"/>
          <p:cNvSpPr/>
          <p:nvPr/>
        </p:nvSpPr>
        <p:spPr>
          <a:xfrm>
            <a:off x="3429000" y="34164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De concep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7 CuadroTexto"/>
          <p:cNvSpPr/>
          <p:nvPr/>
        </p:nvSpPr>
        <p:spPr>
          <a:xfrm>
            <a:off x="2786040" y="245736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 da también depend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8 CuadroTexto"/>
          <p:cNvSpPr/>
          <p:nvPr/>
        </p:nvSpPr>
        <p:spPr>
          <a:xfrm>
            <a:off x="5572080" y="34164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De formas art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9 CuadroTexto"/>
          <p:cNvSpPr/>
          <p:nvPr/>
        </p:nvSpPr>
        <p:spPr>
          <a:xfrm>
            <a:off x="3214800" y="441648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manifiesta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10 CuadroTexto"/>
          <p:cNvSpPr/>
          <p:nvPr/>
        </p:nvSpPr>
        <p:spPr>
          <a:xfrm>
            <a:off x="1071720" y="50594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11 CuadroTexto"/>
          <p:cNvSpPr/>
          <p:nvPr/>
        </p:nvSpPr>
        <p:spPr>
          <a:xfrm>
            <a:off x="3214800" y="52149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O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12 CuadroTexto"/>
          <p:cNvSpPr/>
          <p:nvPr/>
        </p:nvSpPr>
        <p:spPr>
          <a:xfrm>
            <a:off x="5286240" y="493380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CONSUMO INDISCRIMINADO DE PRODUCTOS Y MENS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14 Flecha abajo"/>
          <p:cNvSpPr/>
          <p:nvPr/>
        </p:nvSpPr>
        <p:spPr>
          <a:xfrm>
            <a:off x="4071960" y="2071800"/>
            <a:ext cx="7858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1520">
            <a:solidFill>
              <a:srgbClr val="9b320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20 Conector recto de flecha"/>
          <p:cNvCxnSpPr/>
          <p:nvPr/>
        </p:nvCxnSpPr>
        <p:spPr>
          <a:xfrm flipH="1">
            <a:off x="2285280" y="3070800"/>
            <a:ext cx="1072440" cy="214920"/>
          </a:xfrm>
          <a:prstGeom prst="straightConnector1">
            <a:avLst/>
          </a:prstGeom>
          <a:ln w="7632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54" name="27 Conector recto de flecha"/>
          <p:cNvCxnSpPr>
            <a:endCxn id="637" idx="0"/>
          </p:cNvCxnSpPr>
          <p:nvPr/>
        </p:nvCxnSpPr>
        <p:spPr>
          <a:xfrm flipH="1">
            <a:off x="4249080" y="2999880"/>
            <a:ext cx="37080" cy="35820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655" name="30 Conector recto de flecha"/>
          <p:cNvCxnSpPr/>
          <p:nvPr/>
        </p:nvCxnSpPr>
        <p:spPr>
          <a:xfrm>
            <a:off x="5928840" y="2928600"/>
            <a:ext cx="894600" cy="429480"/>
          </a:xfrm>
          <a:prstGeom prst="straightConnector1">
            <a:avLst/>
          </a:prstGeom>
          <a:ln w="7632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656" name="33 Abrir llave"/>
          <p:cNvSpPr/>
          <p:nvPr/>
        </p:nvSpPr>
        <p:spPr>
          <a:xfrm rot="16200000">
            <a:off x="4000320" y="1071360"/>
            <a:ext cx="571680" cy="6286680"/>
          </a:xfrm>
          <a:custGeom>
            <a:avLst/>
            <a:gdLst>
              <a:gd name="textAreaLeft" fmla="*/ 365400 w 571680"/>
              <a:gd name="textAreaRight" fmla="*/ 572040 w 571680"/>
              <a:gd name="textAreaTop" fmla="*/ 14760 h 6286680"/>
              <a:gd name="textAreaBottom" fmla="*/ 6271920 h 628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7" name="38 Conector recto de flecha"/>
          <p:cNvCxnSpPr/>
          <p:nvPr/>
        </p:nvCxnSpPr>
        <p:spPr>
          <a:xfrm flipH="1">
            <a:off x="1856880" y="4713840"/>
            <a:ext cx="1501200" cy="21492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658" name="40 Conector recto de flecha"/>
          <p:cNvCxnSpPr/>
          <p:nvPr/>
        </p:nvCxnSpPr>
        <p:spPr>
          <a:xfrm flipH="1">
            <a:off x="3999960" y="4716360"/>
            <a:ext cx="1080" cy="28512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59" name="42 Conector recto de flecha"/>
          <p:cNvCxnSpPr/>
          <p:nvPr/>
        </p:nvCxnSpPr>
        <p:spPr>
          <a:xfrm>
            <a:off x="4642920" y="4714560"/>
            <a:ext cx="1429560" cy="14364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742217"/>
                </a:solidFill>
                <a:latin typeface="Georgia"/>
              </a:rPr>
              <a:t>DEPENDENCIA Y GLOBALIZACION</a:t>
            </a:r>
            <a:endParaRPr b="0" lang="en-US" sz="32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57120" y="1356840"/>
            <a:ext cx="84297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Georgia"/>
              </a:rPr>
              <a:t>El consumo indiscriminado a gran escala, no solo de productos y objetos, sino también de mensajes como construcciones elaboradas que pueden modelar nuestras actitudes, conductas e ideas sobre el mundo, refuerza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72880">
              <a:spcBef>
                <a:spcPts val="700"/>
              </a:spcBef>
              <a:buClr>
                <a:srgbClr val="a28e6a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Georgia"/>
              </a:rPr>
              <a:t>estereotipos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72880">
              <a:spcBef>
                <a:spcPts val="700"/>
              </a:spcBef>
              <a:buClr>
                <a:srgbClr val="a28e6a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Georgia"/>
              </a:rPr>
              <a:t>roles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72880">
              <a:spcBef>
                <a:spcPts val="700"/>
              </a:spcBef>
              <a:buClr>
                <a:srgbClr val="a28e6a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Georgia"/>
              </a:rPr>
              <a:t>actitude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72880">
              <a:spcBef>
                <a:spcPts val="499"/>
              </a:spcBef>
              <a:buClr>
                <a:srgbClr val="a28e6a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2060"/>
                </a:solidFill>
                <a:latin typeface="Georgia"/>
              </a:rPr>
              <a:t>ideologías, entre ellas la homogenización cultural</a:t>
            </a:r>
            <a:r>
              <a:rPr b="1" i="1" lang="es-ES" sz="20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4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6143760" y="3714840"/>
            <a:ext cx="182700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742217"/>
                </a:solidFill>
                <a:latin typeface="Georgia"/>
              </a:rPr>
              <a:t>GLOBALIZACIÓN: principales aspectos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85840" y="1499760"/>
            <a:ext cx="79293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Georgia"/>
              </a:rPr>
              <a:t>Creciente importancia de los sistemas de comunicaciones global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Georgia"/>
              </a:rPr>
              <a:t>Interacción más fluida de las naciones, grupos sociales y personas, tanto dentro como entre nacion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Georgia"/>
              </a:rPr>
              <a:t>Facilidad para la interacción de grupos de las naciones más pobres en su comunicación con otros centros más desarrollado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Georgia"/>
              </a:rPr>
              <a:t>El principio de la “aldea global” se sustenta en las comunicaciones y las transacciones comercial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spcAft>
                <a:spcPts val="2401"/>
              </a:spcAft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5" name="Picture 2" descr="C:\Users\TOSHIBA\Pictures\Galería multimedia de Microsoft\j0284011.gif"/>
          <p:cNvPicPr/>
          <p:nvPr/>
        </p:nvPicPr>
        <p:blipFill>
          <a:blip r:embed="rId1"/>
          <a:stretch/>
        </p:blipFill>
        <p:spPr>
          <a:xfrm>
            <a:off x="7643880" y="2071800"/>
            <a:ext cx="1152360" cy="1571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12808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742217"/>
                </a:solidFill>
                <a:latin typeface="Georgia"/>
              </a:rPr>
              <a:t>GLOBALIZACIÓN Y SOCIEDAD</a:t>
            </a:r>
            <a:endParaRPr b="0" lang="en-US" sz="3300" spc="-1" strike="noStrike">
              <a:solidFill>
                <a:srgbClr val="8e7c5c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85840" y="142848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La globalización está generando profundos cambios en el ámbito más amplio de la organización social. Las luchas por la defensa de las identidades culturales toman a menudo formas de agresión violenta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La segmentación de los países y de las sociedades hacen surgir tres tipos de actores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b2d1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2060"/>
                </a:solidFill>
                <a:latin typeface="Trebuchet MS"/>
                <a:ea typeface="Arial Unicode MS"/>
              </a:rPr>
              <a:t>Los </a:t>
            </a:r>
            <a:r>
              <a:rPr b="1" i="1" lang="es-PE" sz="2000" spc="-1" strike="noStrike" u="sng">
                <a:solidFill>
                  <a:srgbClr val="4e1610"/>
                </a:solidFill>
                <a:uFillTx/>
                <a:latin typeface="Trebuchet MS"/>
                <a:ea typeface="Arial Unicode MS"/>
              </a:rPr>
              <a:t>GLOBALIZADORES</a:t>
            </a:r>
            <a:r>
              <a:rPr b="1" i="1" lang="es-PE" sz="2000" spc="-1" strike="noStrike">
                <a:solidFill>
                  <a:srgbClr val="002060"/>
                </a:solidFill>
                <a:latin typeface="Trebuchet MS"/>
                <a:ea typeface="Arial Unicode MS"/>
              </a:rPr>
              <a:t> que poseen el conjunto de los capitales, de los recursos, de los conocimientos y el monopolio de las informaciones; </a:t>
            </a:r>
            <a:endParaRPr b="0" lang="en-US" sz="2000" spc="-1" strike="noStrike">
              <a:solidFill>
                <a:srgbClr val="696464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b2d1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2060"/>
                </a:solidFill>
                <a:latin typeface="Trebuchet MS"/>
                <a:ea typeface="Arial Unicode MS"/>
              </a:rPr>
              <a:t>Los </a:t>
            </a:r>
            <a:r>
              <a:rPr b="1" i="1" lang="es-PE" sz="2000" spc="-1" strike="noStrike" u="sng">
                <a:solidFill>
                  <a:srgbClr val="4e1610"/>
                </a:solidFill>
                <a:uFillTx/>
                <a:latin typeface="Trebuchet MS"/>
                <a:ea typeface="Arial Unicode MS"/>
              </a:rPr>
              <a:t>GLOBALIZADOS </a:t>
            </a:r>
            <a:r>
              <a:rPr b="1" i="1" lang="es-PE" sz="2000" spc="-1" strike="noStrike">
                <a:solidFill>
                  <a:srgbClr val="002060"/>
                </a:solidFill>
                <a:latin typeface="Trebuchet MS"/>
                <a:ea typeface="Arial Unicode MS"/>
              </a:rPr>
              <a:t>que son trabajadores y consumidores que tienen escasos y superficiales conocimientos; </a:t>
            </a:r>
            <a:endParaRPr b="0" lang="en-US" sz="2000" spc="-1" strike="noStrike">
              <a:solidFill>
                <a:srgbClr val="696464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499"/>
              </a:spcBef>
              <a:buClr>
                <a:srgbClr val="9b2d1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2060"/>
                </a:solidFill>
                <a:latin typeface="Trebuchet MS"/>
                <a:ea typeface="Arial Unicode MS"/>
              </a:rPr>
              <a:t>Los </a:t>
            </a:r>
            <a:r>
              <a:rPr b="1" i="1" lang="es-PE" sz="2000" spc="-1" strike="noStrike" u="sng">
                <a:solidFill>
                  <a:srgbClr val="4e1610"/>
                </a:solidFill>
                <a:uFillTx/>
                <a:latin typeface="Trebuchet MS"/>
                <a:ea typeface="Arial Unicode MS"/>
              </a:rPr>
              <a:t>EXCLUÍDOS</a:t>
            </a:r>
            <a:r>
              <a:rPr b="1" i="1" lang="es-PE" sz="2000" spc="-1" strike="noStrike">
                <a:solidFill>
                  <a:srgbClr val="002060"/>
                </a:solidFill>
                <a:latin typeface="Trebuchet MS"/>
                <a:ea typeface="Arial Unicode MS"/>
              </a:rPr>
              <a:t> que no tienen acceso a los conocimientos</a:t>
            </a:r>
            <a:r>
              <a:rPr b="1" lang="es-PE" sz="2000" spc="-1" strike="noStrike">
                <a:solidFill>
                  <a:srgbClr val="002060"/>
                </a:solidFill>
                <a:latin typeface="Trebuchet MS"/>
                <a:ea typeface="Arial Unicode MS"/>
              </a:rPr>
              <a:t>, </a:t>
            </a:r>
            <a:r>
              <a:rPr b="1" i="1" lang="es-PE" sz="2000" spc="-1" strike="noStrike">
                <a:solidFill>
                  <a:srgbClr val="002060"/>
                </a:solidFill>
                <a:latin typeface="Trebuchet MS"/>
                <a:ea typeface="Arial Unicode MS"/>
              </a:rPr>
              <a:t>ninguna importancia como consumidores y tienen un papel insignificante en la producción.</a:t>
            </a:r>
            <a:endParaRPr b="0" lang="en-US" sz="2000" spc="-1" strike="noStrike">
              <a:solidFill>
                <a:srgbClr val="696464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8" name="Picture 4" descr="C:\Users\TOSHIBA\Documents\MIS DOCUMENTOS\Mis imágenes\Galería multimedia de Microsoft\j0318166.gif"/>
          <p:cNvPicPr/>
          <p:nvPr/>
        </p:nvPicPr>
        <p:blipFill>
          <a:blip r:embed="rId1"/>
          <a:stretch/>
        </p:blipFill>
        <p:spPr>
          <a:xfrm>
            <a:off x="7810560" y="214200"/>
            <a:ext cx="111924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6:55:18Z</dcterms:created>
  <dc:creator>TOSHIBA</dc:creator>
  <dc:description/>
  <dc:language>en-US</dc:language>
  <cp:lastModifiedBy>Yolita</cp:lastModifiedBy>
  <dcterms:modified xsi:type="dcterms:W3CDTF">2009-06-27T14:42:19Z</dcterms:modified>
  <cp:revision>135</cp:revision>
  <dc:subject/>
  <dc:title>Diapositiva 1</dc:title>
</cp:coreProperties>
</file>